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F37-C1FE-4A86-AB19-099CDE14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9B90-813D-4EAA-A892-4236D9F1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7A32-FAA5-4969-9285-E889A98BB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7F70-6BE7-4CF0-9B8C-0988865CF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908A-82BD-4F20-8EA1-111CAA82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4D72-F197-4B61-AB9B-F4CAE2305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5891-72AD-4335-8443-0958CD1D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8113-D757-4C67-82F4-770C6A2A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1A40-8637-48D8-BEB9-9B70556F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1A0B-1A18-48F1-9B7B-0BFDC639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0C19-4528-4A82-8738-61BE082F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D81A-CF43-412A-BA31-93B5A463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53CC-3C0E-432F-832F-A2C510F41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393372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59280" y="3933720"/>
            <a:ext cx="280800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67280" y="393372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19280" y="270828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27640" y="270828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32000" y="1484280"/>
            <a:ext cx="2808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5373720"/>
            <a:ext cx="194328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things you’ve lear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24720" y="2708280"/>
            <a:ext cx="129528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things you need to prac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981000"/>
            <a:ext cx="13687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7956720" y="522900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308360" y="31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148428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40360" y="333360"/>
            <a:ext cx="4535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as hast du heute gemacht / geler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9:08:00Z</dcterms:created>
  <dc:creator>Helena</dc:creator>
  <dc:description/>
  <dc:language>en-US</dc:language>
  <cp:lastModifiedBy>Helena</cp:lastModifiedBy>
  <dcterms:modified xsi:type="dcterms:W3CDTF">2010-11-03T19:08:16Z</dcterms:modified>
  <cp:revision>1</cp:revision>
  <dc:subject/>
  <dc:title>Slide 1</dc:title>
</cp:coreProperties>
</file>